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B4698-2105-4C11-AD4A-0AFFA087C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F2CB4-EF0E-4DD0-8D08-648FCB18F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27E72-B249-4A39-99F1-2B5BA6E8C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63BDF-931E-48E9-AAF7-05DB8C1F7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91947-49F2-45FA-83D4-420BBA22C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4E1BA-4688-40BC-A32A-D4FCBDCEA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3FE36-239A-4D3F-B332-5D126FD8C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5275F-3D4E-4CCC-A7C9-B89DD26F7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76C3C-A5E6-4DA0-B8CC-B96B16948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340C5-935F-464C-BA3B-5C50C0022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8B44A-37E3-4863-961C-378AEACFD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689C3-27AC-4AD2-B716-F6D4A84EB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27B46-A44B-4F2E-971B-14A2E1B975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000000"/>
                </a:solidFill>
                <a:latin typeface="Calibri"/>
              </a:rPr>
              <a:t>MULTIPLI MIJELO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8" descr="Grb MF"/>
          <p:cNvPicPr/>
          <p:nvPr/>
        </p:nvPicPr>
        <p:blipFill>
          <a:blip r:embed="rId1"/>
          <a:stretch/>
        </p:blipFill>
        <p:spPr>
          <a:xfrm>
            <a:off x="8001000" y="380880"/>
            <a:ext cx="762120" cy="125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ffffff"/>
                </a:solidFill>
                <a:latin typeface="Calibri"/>
              </a:rPr>
              <a:t>ПРИКАЗ</a:t>
            </a:r>
            <a:r>
              <a:rPr b="0" lang="sr-Latn-RS" sz="4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sr-RS" sz="4400" spc="-1" strike="noStrike">
                <a:solidFill>
                  <a:srgbClr val="ffffff"/>
                </a:solidFill>
                <a:latin typeface="Calibri"/>
              </a:rPr>
              <a:t>СЛУЧАЈ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Пацијенткиња Б.Ј 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62 год,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примљена у хитну интернистичку амбуланту због осећаја болова у грудима, лупања срца, повраћања, мучнине, опште слабости и малаксалости, отежаног дисања са искашљавањем беличастог садржај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Наводи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да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је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последњих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месец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дана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изгубила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10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кг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Бивши је пушач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личној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анамнези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наводи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да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лечи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од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хипопаратиреоидизма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добила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је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упут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за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реуматолога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због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сумње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остеопороз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Негира постојање болести од хередитарног значаја,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алергиј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8" descr="Grb MF"/>
          <p:cNvPicPr/>
          <p:nvPr/>
        </p:nvPicPr>
        <p:blipFill>
          <a:blip r:embed="rId1"/>
          <a:stretch/>
        </p:blipFill>
        <p:spPr>
          <a:xfrm>
            <a:off x="8001000" y="152280"/>
            <a:ext cx="762120" cy="125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ffffff"/>
                </a:solidFill>
                <a:latin typeface="Calibri"/>
              </a:rPr>
              <a:t>ПРИКАЗ</a:t>
            </a:r>
            <a:r>
              <a:rPr b="0" lang="sr-Latn-RS" sz="4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sr-RS" sz="4400" spc="-1" strike="noStrike">
                <a:solidFill>
                  <a:srgbClr val="ffffff"/>
                </a:solidFill>
                <a:latin typeface="Calibri"/>
              </a:rPr>
              <a:t>СЛУЧАЈ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ФИЗИКАЛНИ НАЛАЗ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Бледа, адинамична, свесна, слабо комуникативна, отежано покретна. ТТ 50кг, ТВ 160цм, ТА 110/60mmh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На плућима дифузно ослабљен дисајни шу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На срцу радња ритмична, убрзана, тонови јасн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ЛМС без ото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ЕКГ синусна тахикардија, фр 125/мин, QTснижен 280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8" descr="Grb MF"/>
          <p:cNvPicPr/>
          <p:nvPr/>
        </p:nvPicPr>
        <p:blipFill>
          <a:blip r:embed="rId1"/>
          <a:stretch/>
        </p:blipFill>
        <p:spPr>
          <a:xfrm>
            <a:off x="8001000" y="152280"/>
            <a:ext cx="762120" cy="125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ffffff"/>
                </a:solidFill>
                <a:latin typeface="Calibri"/>
              </a:rPr>
              <a:t>ПРИКАЗ</a:t>
            </a:r>
            <a:r>
              <a:rPr b="0" lang="sr-Latn-RS" sz="4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sr-RS" sz="4400" spc="-1" strike="noStrike">
                <a:solidFill>
                  <a:srgbClr val="ffffff"/>
                </a:solidFill>
                <a:latin typeface="Calibri"/>
              </a:rPr>
              <a:t>СЛУЧАЈ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Одмах 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су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урађене хитне лабораторијске анализ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Hgb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80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E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2,7x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r>
              <a:rPr b="0" lang="sr-Latn-RS" sz="2400" spc="-1" strike="noStrike" baseline="30000">
                <a:solidFill>
                  <a:srgbClr val="000000"/>
                </a:solidFill>
                <a:latin typeface="Calibri"/>
              </a:rPr>
              <a:t>1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l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 ,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10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x1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r>
              <a:rPr b="0" lang="sr-RS" sz="2400" spc="-1" strike="noStrike" baseline="30000">
                <a:solidFill>
                  <a:srgbClr val="000000"/>
                </a:solidFill>
                <a:latin typeface="Calibri"/>
              </a:rPr>
              <a:t>9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l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Ne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71%, 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Lym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22%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,        Eo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0,4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%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B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0,6%, 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Mo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6%), 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T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288x10</a:t>
            </a:r>
            <a:r>
              <a:rPr b="0" lang="sr-RS" sz="2400" spc="-1" strike="noStrike" baseline="30000">
                <a:solidFill>
                  <a:srgbClr val="000000"/>
                </a:solidFill>
                <a:latin typeface="Calibri"/>
              </a:rPr>
              <a:t>9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l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MCV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8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фибриноген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6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г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/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, 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S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70,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у електролитном статусу доминира хиперкалцемија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Ca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6,1ммол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фосфати у референтном опсегу 1,3ммол/л,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ALP 150U/l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 (↑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Кардиоспецифични ензими показују нешто благо повећане вредности тропонина 0,0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8" descr="Grb MF"/>
          <p:cNvPicPr/>
          <p:nvPr/>
        </p:nvPicPr>
        <p:blipFill>
          <a:blip r:embed="rId1"/>
          <a:stretch/>
        </p:blipFill>
        <p:spPr>
          <a:xfrm>
            <a:off x="8001000" y="152280"/>
            <a:ext cx="762120" cy="125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ffffff"/>
                </a:solidFill>
                <a:latin typeface="Calibri"/>
              </a:rPr>
              <a:t>ПРИКАЗ</a:t>
            </a:r>
            <a:r>
              <a:rPr b="0" lang="sr-Latn-RS" sz="4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sr-RS" sz="4400" spc="-1" strike="noStrike">
                <a:solidFill>
                  <a:srgbClr val="ffffff"/>
                </a:solidFill>
                <a:latin typeface="Calibri"/>
              </a:rPr>
              <a:t>СЛУЧАЈ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RTG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плућа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Дифузне остеолитичке промене са знацима фрактуре стернума. На плућима наглашена бронховаскуларна шара уз знаке консолидације базално лево. У средњем и доњем плућном пољу  лево уз латерални торакални зид, промене које могу одговарату секундарним депозитим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ЕХО абдомена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У жучној кеси мултипли калкулуси промера 10мм,                    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у 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бубрезима микролитијаза, без дилатације ПК система. Остали налаз уредан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8" descr="Grb MF"/>
          <p:cNvPicPr/>
          <p:nvPr/>
        </p:nvPicPr>
        <p:blipFill>
          <a:blip r:embed="rId1"/>
          <a:stretch/>
        </p:blipFill>
        <p:spPr>
          <a:xfrm>
            <a:off x="8001000" y="152280"/>
            <a:ext cx="762120" cy="125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ffffff"/>
                </a:solidFill>
                <a:latin typeface="Calibri"/>
              </a:rPr>
              <a:t>ПРИКАЗ</a:t>
            </a:r>
            <a:r>
              <a:rPr b="0" lang="sr-Latn-RS" sz="4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sr-RS" sz="4400" spc="-1" strike="noStrike">
                <a:solidFill>
                  <a:srgbClr val="ffffff"/>
                </a:solidFill>
                <a:latin typeface="Calibri"/>
              </a:rPr>
              <a:t>СЛУЧАЈ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Конзилијарни преглед хематолог, ендокринолог и кардиолог доносе одлуку да се болесница прими у Интензивну интернистичку негу ради даље дијагностике и мултидисциплинарног лечења, као и праћења виталних функциј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Укључена терапија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- диуретиц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бета блокатор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соли фосфат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гликокортикоид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8" descr="Grb MF"/>
          <p:cNvPicPr/>
          <p:nvPr/>
        </p:nvPicPr>
        <p:blipFill>
          <a:blip r:embed="rId1"/>
          <a:stretch/>
        </p:blipFill>
        <p:spPr>
          <a:xfrm>
            <a:off x="8001000" y="152280"/>
            <a:ext cx="762120" cy="125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ffffff"/>
                </a:solidFill>
                <a:latin typeface="Calibri"/>
              </a:rPr>
              <a:t>ПРИКАЗ</a:t>
            </a:r>
            <a:r>
              <a:rPr b="0" lang="sr-Latn-RS" sz="4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sr-RS" sz="4400" spc="-1" strike="noStrike">
                <a:solidFill>
                  <a:srgbClr val="ffffff"/>
                </a:solidFill>
                <a:latin typeface="Calibri"/>
              </a:rPr>
              <a:t>СЛУЧАЈ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Урађен ехо врата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без изражене лимфаденопатије, у латералном левом режњу штитасте жлезде хиперехогена формација промера 6 мм без јасног ограничењ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Пункција костне сржи: цитолошким налазом аспирата верификовано је 50% плазмоцита који су патолошки измењен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8" descr="Grb MF"/>
          <p:cNvPicPr/>
          <p:nvPr/>
        </p:nvPicPr>
        <p:blipFill>
          <a:blip r:embed="rId1"/>
          <a:stretch/>
        </p:blipFill>
        <p:spPr>
          <a:xfrm>
            <a:off x="8001000" y="152280"/>
            <a:ext cx="762120" cy="12556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" descr=""/>
          <p:cNvPicPr/>
          <p:nvPr/>
        </p:nvPicPr>
        <p:blipFill>
          <a:blip r:embed="rId2"/>
          <a:stretch/>
        </p:blipFill>
        <p:spPr>
          <a:xfrm>
            <a:off x="2514600" y="4191120"/>
            <a:ext cx="46483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ffffff"/>
                </a:solidFill>
                <a:latin typeface="Calibri"/>
              </a:rPr>
              <a:t>ПРИКАЗ</a:t>
            </a:r>
            <a:r>
              <a:rPr b="0" lang="sr-Latn-RS" sz="4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sr-RS" sz="4400" spc="-1" strike="noStrike">
                <a:solidFill>
                  <a:srgbClr val="ffffff"/>
                </a:solidFill>
                <a:latin typeface="Calibri"/>
              </a:rPr>
              <a:t>СЛУЧАЈ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Допунске лабораторијске 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анализе укључујући електофорезу и имуноелектрофорезу протеина серума и урина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уреа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9ммол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л , креатинин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101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умол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укупни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протеини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 83 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↑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 глобулини 43, 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IgG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23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г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ence Jones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протеини у урину позитивн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PTH 67pq/ml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Free Kappa Light Chaine 1700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мг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↑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8" descr="Grb MF"/>
          <p:cNvPicPr/>
          <p:nvPr/>
        </p:nvPicPr>
        <p:blipFill>
          <a:blip r:embed="rId1"/>
          <a:stretch/>
        </p:blipFill>
        <p:spPr>
          <a:xfrm>
            <a:off x="8001000" y="152280"/>
            <a:ext cx="762120" cy="12556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"/>
          <p:cNvPicPr/>
          <p:nvPr/>
        </p:nvPicPr>
        <p:blipFill>
          <a:blip r:embed="rId2"/>
          <a:stretch/>
        </p:blipFill>
        <p:spPr>
          <a:xfrm>
            <a:off x="1676520" y="4343400"/>
            <a:ext cx="601956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ffffff"/>
                </a:solidFill>
                <a:latin typeface="Calibri"/>
              </a:rPr>
              <a:t>ПРИКАЗ</a:t>
            </a:r>
            <a:r>
              <a:rPr b="0" lang="sr-Latn-RS" sz="4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sr-RS" sz="4400" spc="-1" strike="noStrike">
                <a:solidFill>
                  <a:srgbClr val="ffffff"/>
                </a:solidFill>
                <a:latin typeface="Calibri"/>
              </a:rPr>
              <a:t>СЛУЧАЈ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Постављен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 дијагноза 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Myeloma multiplex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Клинички стадијум  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III Salmon Dur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Лечење преузима хематолог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Терапија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CTD ( Ciklofosfamid, Talidomid, Dexametason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уз ендокринолошку терапију и праћењ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8" descr="Grb MF"/>
          <p:cNvPicPr/>
          <p:nvPr/>
        </p:nvPicPr>
        <p:blipFill>
          <a:blip r:embed="rId1"/>
          <a:stretch/>
        </p:blipFill>
        <p:spPr>
          <a:xfrm>
            <a:off x="8001000" y="152280"/>
            <a:ext cx="762120" cy="125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Maja</dc:creator>
  <dc:description/>
  <dc:language>en-US</dc:language>
  <cp:lastModifiedBy>Zeljko</cp:lastModifiedBy>
  <dcterms:modified xsi:type="dcterms:W3CDTF">2021-09-07T00:11:04Z</dcterms:modified>
  <cp:revision>11</cp:revision>
  <dc:subject/>
  <dc:title>MULTIPLI MIJELOM</dc:title>
</cp:coreProperties>
</file>