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1D72-11DA-4E8A-B10C-48BE5D94F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CD6F-629F-4EF4-88CD-6FD6C8761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26A0-112F-4150-94EF-FB5AF32E1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779D-706A-4ECB-BD54-C4AE31964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EB7A-32CD-4871-A5AC-5AD37BE9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3ECC-6A70-415C-8940-6A0ABAF6B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6CFE-15E3-4671-BDA7-AC30A89EA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3B90-4BDF-40EA-88ED-8C22813E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83B2-F022-4C8E-8BA2-984776A2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1532-F102-4A35-965D-4F7CF552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86A6-F822-4C6A-A1C6-B688B92F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EE4B-16AC-45E6-BC72-00DFABD0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D777-A2FB-4AE3-A469-E985EDBB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1AE8-ACBB-4C5B-9AFF-87D4F289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72F5-43F3-480B-8963-F4E272C7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0ACF-C208-49C2-8AF4-7334AC537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500040" y="1428840"/>
            <a:ext cx="800100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Интегрисане академске студије медиц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едмет: Интерна медицин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Наставна јединица: </a:t>
            </a:r>
            <a:r>
              <a:rPr b="1" i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Имунопролиферативне боле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едавач:  </a:t>
            </a:r>
            <a:r>
              <a:rPr b="1" i="1" lang="sr-CS" sz="2400" spc="-1" strike="noStrike" u="sng">
                <a:solidFill>
                  <a:srgbClr val="6600ff"/>
                </a:solidFill>
                <a:uFillTx/>
                <a:latin typeface="Arial"/>
              </a:rPr>
              <a:t>Проф др Предраг Ђурђе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409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ff0000"/>
                </a:solidFill>
                <a:uFillTx/>
                <a:latin typeface="Arial"/>
              </a:rPr>
              <a:t>Дијагноза ММ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≥ 1 „major” + 1 „minor”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≥ 3 „minor”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(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le/Grei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55640" y="2133720"/>
          <a:ext cx="7772400" cy="45622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3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илтрација костне сржи плазмоцитима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≥3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илтрација костне сржи плазмоцитима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- 29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е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G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35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 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A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20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ce Jones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1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24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еин испод концентрација наведених у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</a:t>
                      </a: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јуми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еолитичке лезиј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погамаглобулинемија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M &lt; 0,5gr/L; IgA &lt; 1gr/L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G &lt; 6gr/L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Одређивање клиничког стадијума - </a:t>
            </a: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Duri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&amp;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Salmon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84360" y="1484280"/>
          <a:ext cx="8459640" cy="5222880"/>
        </p:xfrm>
        <a:graphic>
          <a:graphicData uri="http://schemas.openxmlformats.org/drawingml/2006/table">
            <a:tbl>
              <a:tblPr/>
              <a:tblGrid>
                <a:gridCol w="3313080"/>
                <a:gridCol w="5146560"/>
              </a:tblGrid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дију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ју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</a:tr>
              <a:tr h="184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дијум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(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 туморска мас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и критеријуми наведени испо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емоглобин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&gt;10 g/d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Ca &lt; 3.0 mmol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-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еин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- IgA &lt; 30 g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- IgG &lt; 50 g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-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ки ланци у урин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&lt; 4 g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зрац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имално једна остеолитичка лезиј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дијум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I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(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рмедијерна туморска мас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 стадијум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 стадијум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</a:tr>
              <a:tr h="18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дијум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(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лика туморска мас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едан или више критеријума наведених испо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емоглобин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&lt; 8.5 g/d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Ca &gt; 3.0 mmol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-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еин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- IgA &gt; 50 g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- IgG &gt; 70 g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-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ки ланци у урин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&gt; 12 g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рац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&gt;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остеолитичке лез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</a:tr>
              <a:tr h="67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убкласификациј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дијум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A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   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умска концентрација креатинина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&lt; 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m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/L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дијум 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  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умска концентрација креатинина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≥ 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m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Inter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onal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Staging Siste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ISS</a:t>
            </a:r>
            <a:r>
              <a:rPr b="1" lang="hr-HR" sz="28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65280" y="2057400"/>
          <a:ext cx="7810560" cy="3403440"/>
        </p:xfrm>
        <a:graphic>
          <a:graphicData uri="http://schemas.openxmlformats.org/drawingml/2006/table">
            <a:tbl>
              <a:tblPr/>
              <a:tblGrid>
                <a:gridCol w="1415880"/>
                <a:gridCol w="6394680"/>
              </a:tblGrid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дију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ју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дију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M &lt; 3.5 mg/L 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албумин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≥ 3.5 mg/d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дију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       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M &gt; 3.5 mg/L 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албумин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&lt; 3.5 mg/d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                                                 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                         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M 3.5 - 5.5 mg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дију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M &gt; 5.5 mg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1052280"/>
            <a:ext cx="8991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ММ </a:t>
            </a:r>
            <a:br>
              <a:rPr sz="3600"/>
            </a:b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диференцијална дијагн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Метастазе малигних тумора у кости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aldenstroem макроглобулинем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Хроничне нефропат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MG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</a:rPr>
              <a:t>MM</a:t>
            </a:r>
            <a:br>
              <a:rPr sz="3600"/>
            </a:b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терап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59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Болесници 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&lt; 65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год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високодозна ХТ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аутолога трансплантација МЋ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алогена трансплантација МЋ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Болесници 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&gt; 65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год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Конвенционална Х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</a:rPr>
              <a:t>MM</a:t>
            </a:r>
            <a:br>
              <a:rPr sz="3600"/>
            </a:b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терап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1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Новодијагностиковани болесници у IA клиничком стадијуму (Durie&amp;Salm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hr-HR" sz="2400" spc="-1" strike="noStrike">
                <a:solidFill>
                  <a:srgbClr val="000000"/>
                </a:solidFill>
                <a:latin typeface="Arial"/>
              </a:rPr>
              <a:t>Болесници у IA клиничком стадијуму без симптома не захтевају примену специфичног хематолошког лечења. Код ових болесника је индиковано праћење хематолошког статуса у тромесечним интервали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</a:rPr>
              <a:t>MM</a:t>
            </a:r>
            <a:br>
              <a:rPr sz="3600"/>
            </a:b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терап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II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 III клинички стадијум (&lt; 65 година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1) Хемиотерапијске комбинације са талидомидом (CTD ili T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2) Хемиотерапијске комбинације са бортезомибом (Vel-Dex, PAD ili VT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аутолога ТМЋ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</a:rPr>
              <a:t>MM</a:t>
            </a:r>
            <a:br>
              <a:rPr sz="3600"/>
            </a:b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терап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II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 III клинички стадијум (&gt; 65 година)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1) Хемиотерапијске комбинације са талидомидом (MPT ili CT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2) Хемиотерапијске комбинације са бортезомибом (MPV, Vel-Dex ili VT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</a:rPr>
              <a:t>MM</a:t>
            </a:r>
            <a:br>
              <a:rPr sz="3600"/>
            </a:b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супортативно лечењ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бисфосфон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имуноглобул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лазмафереза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Радиотерап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И д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0000"/>
                </a:solidFill>
                <a:latin typeface="Arial"/>
              </a:rPr>
              <a:t>Имунопролиферативне боле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1280" y="1661760"/>
            <a:ext cx="7780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Група малигних болести крви које настају услед бујања клона Б лимфоцита, лимфоплазмоцита или плазмоци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атолошки клон синтетише М-компонен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-компонента је цео молекул Иг или његов лаки или тешки лана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атолошки протеин се функцијски разликује од нормалних Иг и зато се назива парапроте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0000"/>
                </a:solidFill>
                <a:latin typeface="Arial"/>
              </a:rPr>
              <a:t>Имунопролиферативне боле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7400" y="1828440"/>
            <a:ext cx="8512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Класификација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ултипли мијелом 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ММ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 плазмоцитна леукем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 Waldenstrom-ова болест (макроглобулинемиј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 примарна амилоид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 болест тешких ланаца (Франклинова болес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 есенцијална моноклонална криоглобулинем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 бенигна моноклонска хипергамаглобулинем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Мултипли мијелом (ММ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Малигна болест настала неконтролисаном пролиферацијом незрелих и зрелих плазмоцита који потичу из једног кл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ли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чке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фор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е су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мултипл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ијелом (дифузно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солитар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пл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оцитом (локалн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кстрамедуларни мије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smoldering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(„тињајући”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ијелом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пл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оцитна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леукем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360" y="291960"/>
            <a:ext cx="777564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</a:rPr>
              <a:t>M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355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Патолошки плазмоцити стварају М проте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М протеи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у око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9%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случајева у серуму и/или урину се налази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gG &gt; 50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gA 20-25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gE i IgD 1-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аки ланци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- 1%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случајева су несекреторни – НЕМА М-проте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4809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</a:rPr>
              <a:t>MM</a:t>
            </a:r>
            <a:br>
              <a:rPr sz="3600"/>
            </a:br>
            <a:r>
              <a:rPr b="1" lang="pl-PL" sz="36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lang="sr-CS" sz="3600" spc="-1" strike="noStrike">
                <a:solidFill>
                  <a:srgbClr val="333399"/>
                </a:solidFill>
                <a:latin typeface="Arial"/>
              </a:rPr>
              <a:t>пидемиолог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2437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нциденца 1-2 оболела на 100000 станов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1% свих малигних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10% свих хематолошких малигнит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честалост расте са старошћ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- највише оболеих после 65.годи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- 2%  оболелих је млађе од 40.год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Чешће болују мушкар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409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М</a:t>
            </a:r>
            <a:br>
              <a:rPr sz="3600"/>
            </a:br>
            <a:r>
              <a:rPr b="1" lang="pl-PL" sz="36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lang="sr-CS" sz="3600" spc="-1" strike="noStrike">
                <a:solidFill>
                  <a:srgbClr val="333399"/>
                </a:solidFill>
                <a:latin typeface="Arial"/>
              </a:rPr>
              <a:t>тиопатогене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Етиологија НЕПОЗН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Клиничке манифестације су последица биолошких карактеристика плазмоцита и абнормалности проузрокованих М-протеин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плазмоцитна пролиферац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- мултипле остеоличке коштане лез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- хиперкалцем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- панцитопенија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моноклонални М протеи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- смањење нивоа нормалних И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-  инфек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ипервискозит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- бубрежна инсуфицијен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М</a:t>
            </a:r>
            <a:br>
              <a:rPr sz="3600"/>
            </a:br>
            <a:r>
              <a:rPr b="1" lang="pl-PL" sz="36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1" lang="sr-CS" sz="3600" spc="-1" strike="noStrike">
                <a:solidFill>
                  <a:srgbClr val="333399"/>
                </a:solidFill>
                <a:latin typeface="Arial"/>
              </a:rPr>
              <a:t>линичка сл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5520" y="2133720"/>
            <a:ext cx="880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Око 15-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30% 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болесника без симпт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ли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чки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мпто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л у костима и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патол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шке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фр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к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деформитети костију и смањ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ње телесне виси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замар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малаксалост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учестале и тешке инфекције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енал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на инсуфицијен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хеморагијска дијат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неуролошки испади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553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766440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Лабораториј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 &gt; 100 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анемиј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Тромбоцитопен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гранулоцитопен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ouleaux феномен у периферном разма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хиперпротеинем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хиперкалцем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протеинурија (Bence-J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азотемија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8T03:58:38Z</dcterms:created>
  <dc:creator>Janko</dc:creator>
  <dc:description/>
  <dc:language>en-US</dc:language>
  <cp:lastModifiedBy>Administrator</cp:lastModifiedBy>
  <dcterms:modified xsi:type="dcterms:W3CDTF">2016-08-30T19:21:11Z</dcterms:modified>
  <cp:revision>2</cp:revision>
  <dc:subject/>
  <dc:title>Slide 1</dc:title>
</cp:coreProperties>
</file>